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E5C-6384-4EBF-9615-E771D176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D31-AB6D-42BE-988D-716010F1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43B-1027-4878-A709-C62946AD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296-C2C7-4BF9-87BB-3320A2B1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B79-FEC0-4ACE-A962-58B492B1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763-3145-4EF2-A31B-480E4BF3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DBB-110D-4E23-A55A-79C736CB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F47-23E9-493A-8888-DAD9C46B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144-A9B1-4D2C-8761-88357DAE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36A-4802-4B8C-8AD8-6901CB0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E7E-0763-4BED-B1D9-25163130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82A-3F6D-43C3-A233-64C223A3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864-F2AA-425A-8FD3-E7C1480EA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aratedepot.com/wp-ni-50.htm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karatedepot.com/un-sp-10.html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karatedepot.com/wp-ni-90.html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smaws.com/hayabusa-striking-shin-guards-p-3191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n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s of nin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Ninja"/>
          <p:cNvPicPr/>
          <p:nvPr/>
        </p:nvPicPr>
        <p:blipFill>
          <a:blip r:embed="rId1"/>
          <a:stretch/>
        </p:blipFill>
        <p:spPr>
          <a:xfrm>
            <a:off x="6629400" y="1600200"/>
            <a:ext cx="22017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Ninja Weapons"/>
          <p:cNvPicPr/>
          <p:nvPr/>
        </p:nvPicPr>
        <p:blipFill>
          <a:blip r:embed="rId2"/>
          <a:stretch/>
        </p:blipFill>
        <p:spPr>
          <a:xfrm>
            <a:off x="6095880" y="4356000"/>
            <a:ext cx="3048120" cy="250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76520" y="1143000"/>
            <a:ext cx="419076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581280"/>
            <a:ext cx="1816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ninja practice throwing stars"/>
          <p:cNvPicPr/>
          <p:nvPr/>
        </p:nvPicPr>
        <p:blipFill>
          <a:blip r:embed="rId1"/>
          <a:stretch/>
        </p:blipFill>
        <p:spPr>
          <a:xfrm>
            <a:off x="5562720" y="45720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black practic sai"/>
          <p:cNvPicPr/>
          <p:nvPr/>
        </p:nvPicPr>
        <p:blipFill>
          <a:blip r:embed="rId2"/>
          <a:stretch/>
        </p:blipFill>
        <p:spPr>
          <a:xfrm>
            <a:off x="228600" y="3962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Nunchaku Extend A Chuck"/>
          <p:cNvPicPr/>
          <p:nvPr/>
        </p:nvPicPr>
        <p:blipFill>
          <a:blip r:embed="rId3"/>
          <a:stretch/>
        </p:blipFill>
        <p:spPr>
          <a:xfrm>
            <a:off x="594360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276720" y="4419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2590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el wield 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327672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ja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148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wield kn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64911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 kn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4456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n ch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4956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9600" y="1371600"/>
            <a:ext cx="3635280" cy="5486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152280"/>
            <a:ext cx="1727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nja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Hayabusa Pro Striking Shin Gua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&quot;NINJA MINI THROW STARS"/>
          <p:cNvPicPr/>
          <p:nvPr/>
        </p:nvPicPr>
        <p:blipFill>
          <a:blip r:embed="rId3"/>
          <a:stretch/>
        </p:blipFill>
        <p:spPr>
          <a:xfrm>
            <a:off x="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2 PC Ninja Throwing knife set"/>
          <p:cNvPicPr/>
          <p:nvPr/>
        </p:nvPicPr>
        <p:blipFill>
          <a:blip r:embed="rId4"/>
          <a:stretch/>
        </p:blipFill>
        <p:spPr>
          <a:xfrm>
            <a:off x="3276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'Spy Watcher Sword"/>
          <p:cNvPicPr/>
          <p:nvPr/>
        </p:nvPicPr>
        <p:blipFill>
          <a:blip r:embed="rId5"/>
          <a:stretch/>
        </p:blipFill>
        <p:spPr>
          <a:xfrm>
            <a:off x="6019920" y="304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'3 Piece NINJA RING SET- Large"/>
          <p:cNvPicPr/>
          <p:nvPr/>
        </p:nvPicPr>
        <p:blipFill>
          <a:blip r:embed="rId6"/>
          <a:stretch/>
        </p:blipFill>
        <p:spPr>
          <a:xfrm>
            <a:off x="0" y="838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nja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jas are like soldiers but ninjas are silent and more deadly and ninjas have more weaponry. Ninjas were the most deadly people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228600" y="1219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095880" y="9907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.s. ninjas are awesome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6:54:36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2-01-27T16:52:51Z</dcterms:modified>
  <cp:revision>12</cp:revision>
  <dc:subject/>
  <dc:title>Ninjas</dc:title>
</cp:coreProperties>
</file>